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31C-DCAA-4943-BFB9-B323CC29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DB65-7D51-4304-B321-2D7D10CC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15D-9034-4B18-BC73-52CC7A65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AFB-627E-450F-9DE5-E56FE834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AA18-1F47-41E0-AF5C-5E7CB6BD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7369-0139-4093-8E9E-AA8C4B2B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301F-939C-4389-AAD4-9FC8DB1B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C6F3-6718-4454-B2A4-49813126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C18E-AE19-4F3B-99AB-17350A45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63EC-109A-4123-B730-934FAAB7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F16B-BBD0-4469-B0B2-2AE506EB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5C5-2AE7-455D-8E02-91F17E25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2A02-45C9-4A2D-9D98-90059664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15CE-A336-4CA3-ABDC-B26570F3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C6A7-F8D0-4DB4-B559-8ADB72E6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58B3-28E4-4167-B9C2-6B6DE8D2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59A1-9B4A-4369-8F88-D1403695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ADC-3EA8-46B6-B856-011E3FD9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038-24BA-4BF9-837F-7E417042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4C2-DF44-48C1-AAA9-76002B4E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49B-A0D4-4905-8C90-8D5369BE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A88-DB55-41C4-A1ED-7D14423E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C91-B7D8-46C7-A5FD-2DD5D030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757-6A17-4A4C-BA9E-1DA560C1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36B4-043B-4C3C-A794-50ABE9C3152F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227E-B2D5-43E7-BC30-24492F0B121A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-1143000"/>
            <a:ext cx="68709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the name of Maugly’s author?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400800" y="4714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78840" y="3580200"/>
            <a:ext cx="28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. Kipling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53:5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